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embeddings/oleObject4.xlsx" ContentType="application/vnd.openxmlformats-officedocument.spreadsheetml.sheet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  <p:custShowLst>
    <p:custShow name="Date de detaliu" id="0">
      <p:sldLst>
        <p:sld r:id="rId12"/>
        <p:sld r:id="rId13"/>
      </p:sldLst>
    </p:custShow>
    <p:custShow name="Date generale 1" id="1">
      <p:sldLst>
        <p:sld r:id="rId4"/>
        <p:sld r:id="rId5"/>
        <p:sld r:id="rId6"/>
        <p:sld r:id="rId7"/>
        <p:sld r:id="rId8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00CC1-DB36-4FA4-9479-10D60A2C6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3729F-C813-4700-91C5-5A51EF804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EA864-68EF-4756-BFF7-FD13ABE2F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45C72-8331-4B60-A669-FB8DB9A5B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19F91-5228-400D-BE2C-412D94689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26935-FB58-406F-8B8C-84BE56DEE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0CC19-8CD7-43A9-BC14-ECC02EA3E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03FA4-3FF6-4B40-A09D-8EE5F8A83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83353-EA7A-48FD-B9D1-2178E1078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89954-B937-45EC-8211-EE582CA0E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C1853-05DB-43FF-B4AA-039A1A7DC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0DBFD-68B0-444F-92DA-A10FA2A56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CC674-2BC2-4F64-898C-4360319AF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B5367-53DE-4FA3-AE2D-5E6BA3C05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064B1-D803-40A5-95F4-35D3F148F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F123A-A872-4585-B668-0FD518E7D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55B48-8E36-4321-A2E7-A8577F046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420AE-006D-48CC-8B32-2953891F4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1ECCC-A407-4771-A3A6-36AAE3E23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5B7C0-AD89-4686-B440-3C3D35341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E9C55-04F5-4C79-8FA0-821CDE744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F3E45-03D2-4F8D-BC90-134E49E44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DB235-B4CF-4303-B0CC-9035F1C69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16B9B-C376-4C4C-A5DC-3FC187CF4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EE0B5-E19C-4B6E-A068-63F0A13A6B86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77797-C9EE-485E-AC98-4B876341EF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4038480" y="5791320"/>
            <a:ext cx="943200" cy="933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5F066-904E-4821-91D2-CFD6D5E22F3D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C0EA6-FE9C-4CC3-B169-DB8CD3CB88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8077320" y="3124080"/>
            <a:ext cx="942840" cy="93348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2.wmf"/><Relationship Id="rId4" Type="http://schemas.openxmlformats.org/officeDocument/2006/relationships/slide" Target="slide5.xml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3.wmf"/><Relationship Id="rId4" Type="http://schemas.openxmlformats.org/officeDocument/2006/relationships/slide" Target="slide9.xml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5.wmf"/><Relationship Id="rId4" Type="http://schemas.openxmlformats.org/officeDocument/2006/relationships/slide" Target="slide10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6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7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8.wmf"/><Relationship Id="rId8" Type="http://schemas.openxmlformats.org/officeDocument/2006/relationships/package" Target="../embeddings/oleObject4.xlsx"/><Relationship Id="rId9" Type="http://schemas.openxmlformats.org/officeDocument/2006/relationships/image" Target="../media/image9.wmf"/><Relationship Id="rId10" Type="http://schemas.openxmlformats.org/officeDocument/2006/relationships/package" Target="../embeddings/oleObject5.xlsx"/><Relationship Id="rId11" Type="http://schemas.openxmlformats.org/officeDocument/2006/relationships/image" Target="../media/image10.wmf"/><Relationship Id="rId12" Type="http://schemas.openxmlformats.org/officeDocument/2006/relationships/package" Target="../embeddings/oleObject6.xlsx"/><Relationship Id="rId13" Type="http://schemas.openxmlformats.org/officeDocument/2006/relationships/image" Target="../media/image11.wmf"/><Relationship Id="rId14" Type="http://schemas.openxmlformats.org/officeDocument/2006/relationships/slide" Target="slide3.xml"/><Relationship Id="rId15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Raport de activitate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rimestrul IV 2005</a:t>
            </a:r>
            <a:endParaRPr b="1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ele autorulu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 si locul prezentar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talii cheltuiel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2133720" y="1447920"/>
          <a:ext cx="5029200" cy="40179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33720" y="1447920"/>
                    <a:ext cx="5029200" cy="401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" name="">
            <a:hlinkClick r:id="rId4" action="ppaction://hlinksldjump"/>
          </p:cNvPr>
          <p:cNvSpPr/>
          <p:nvPr/>
        </p:nvSpPr>
        <p:spPr>
          <a:xfrm>
            <a:off x="228600" y="5486400"/>
            <a:ext cx="762120" cy="457200"/>
          </a:xfrm>
          <a:custGeom>
            <a:avLst/>
            <a:gdLst>
              <a:gd name="textAreaLeft" fmla="*/ 29520 w 762120"/>
              <a:gd name="textAreaRight" fmla="*/ 732600 w 7621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5994" h="21600">
                <a:moveTo>
                  <a:pt x="0" y="0"/>
                </a:moveTo>
                <a:lnTo>
                  <a:pt x="35994" y="0"/>
                </a:lnTo>
                <a:lnTo>
                  <a:pt x="35994" y="21600"/>
                </a:lnTo>
                <a:lnTo>
                  <a:pt x="0" y="21600"/>
                </a:lnTo>
                <a:close/>
              </a:path>
              <a:path fill="lightenLess" w="35994" h="21600">
                <a:moveTo>
                  <a:pt x="0" y="0"/>
                </a:moveTo>
                <a:lnTo>
                  <a:pt x="35994" y="0"/>
                </a:lnTo>
                <a:lnTo>
                  <a:pt x="34594" y="1400"/>
                </a:lnTo>
                <a:lnTo>
                  <a:pt x="1400" y="1400"/>
                </a:lnTo>
                <a:close/>
              </a:path>
              <a:path fill="darken" w="35994" h="21600">
                <a:moveTo>
                  <a:pt x="35994" y="0"/>
                </a:moveTo>
                <a:lnTo>
                  <a:pt x="35994" y="21600"/>
                </a:lnTo>
                <a:lnTo>
                  <a:pt x="34594" y="20200"/>
                </a:lnTo>
                <a:lnTo>
                  <a:pt x="34594" y="1400"/>
                </a:lnTo>
                <a:close/>
              </a:path>
              <a:path fill="darkenLess" w="35994" h="21600">
                <a:moveTo>
                  <a:pt x="35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4" y="20200"/>
                </a:lnTo>
                <a:close/>
              </a:path>
              <a:path fill="lighten" w="35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94" h="21600">
                <a:moveTo>
                  <a:pt x="10991" y="10800"/>
                </a:moveTo>
                <a:lnTo>
                  <a:pt x="25004" y="3794"/>
                </a:lnTo>
                <a:lnTo>
                  <a:pt x="2500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7001D-E12E-49BB-A383-B2CEE988BB6F}" type="slidenum">
              <a:t>1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9D3FC6-B2CE-4902-85BA-DC864F6EC84D}" type="datetime1">
              <a:rPr lang="en-US"/>
              <a:t>07/31/26</a:t>
            </a:fld>
          </a:p>
        </p:txBody>
      </p:sp>
    </p:spTree>
  </p:cSld>
  <p:transition>
    <p:cover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Situatii financiare</a:t>
            </a:r>
            <a:endParaRPr b="1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tuatia vanzaril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1905120" y="1447920"/>
          <a:ext cx="5448240" cy="43052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05120" y="1447920"/>
                    <a:ext cx="5448240" cy="430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" name="">
            <a:hlinkClick r:id="rId4" action="ppaction://hlinksldjump"/>
          </p:cNvPr>
          <p:cNvSpPr/>
          <p:nvPr/>
        </p:nvSpPr>
        <p:spPr>
          <a:xfrm>
            <a:off x="7315200" y="518148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010" h="21600">
                <a:moveTo>
                  <a:pt x="11498" y="3794"/>
                </a:moveTo>
                <a:lnTo>
                  <a:pt x="25511" y="10800"/>
                </a:lnTo>
                <a:lnTo>
                  <a:pt x="11498" y="17806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394400" y="5638680"/>
            <a:ext cx="81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al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DBD0F-02CF-45FA-BB29-EF57F01CC720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0A898D-7647-4662-BA60-01C0DD33DD1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tuatia Stocuril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2133720" y="1828800"/>
          <a:ext cx="4905360" cy="37432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33720" y="1828800"/>
                    <a:ext cx="4905360" cy="374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"/>
          <p:cNvSpPr/>
          <p:nvPr/>
        </p:nvSpPr>
        <p:spPr>
          <a:xfrm>
            <a:off x="1069920" y="7089840"/>
            <a:ext cx="17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entari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429000" y="7238880"/>
            <a:ext cx="4952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derea stocurilor s-a datorat aproape exclusiv sarbatorilor de iarna si stoparii aprovizionarii datorita conditiilor meteorolog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95202-9F63-4911-8405-510AD6AD79F9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6DCE63-0879-4922-92BD-4FBAD4BD79B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" dur="5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" dur="5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E-006 8.14815E-006 C 0.04219 -0.028 0.08439 -0.05601 0.08751 -0.15161 C 0.09064 -0.24722 -0.00452 -0.46319 0.01875 -0.57337 C 0.04201 -0.68356 0.13473 -0.7486 0.22744 -0.81342 E">
                                      <p:cBhvr>
                                        <p:cTn id="11" dur="2000" fill="hold"/>
                                        <p:tgtEl>
                                          <p:spTgt spid="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500"/>
                            </p:stCondLst>
                            <p:childTnLst>
                              <p:par>
                                <p:cTn id="13" nodeType="afterEffect" fill="hold" presetClass="path" presetID="0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-0.04201 -0.06898 C -0.1085 -0.23611 -0.175 -0.40301 -0.18333 -0.50069 C -0.19166 -0.59838 -0.11059 -0.63078 -0.09201 -0.65555 E">
                                      <p:cBhvr>
                                        <p:cTn id="14" dur="2000" fill="hold"/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tuatia cheltuielil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2057400" y="1828800"/>
          <a:ext cx="4905360" cy="37432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057400" y="1828800"/>
                    <a:ext cx="4905360" cy="374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">
            <a:hlinkClick r:id="rId4" action="ppaction://hlinksldjump"/>
          </p:cNvPr>
          <p:cNvSpPr/>
          <p:nvPr/>
        </p:nvSpPr>
        <p:spPr>
          <a:xfrm>
            <a:off x="6934320" y="502920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010" h="21600">
                <a:moveTo>
                  <a:pt x="11498" y="3794"/>
                </a:moveTo>
                <a:lnTo>
                  <a:pt x="25511" y="10800"/>
                </a:lnTo>
                <a:lnTo>
                  <a:pt x="11498" y="17806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937200" y="5562720"/>
            <a:ext cx="81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al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830F8-9796-49AE-938A-7B3C4ED252B4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9FFDBF-79CB-4176-B882-F8421B137BA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Politici de marketing</a:t>
            </a:r>
            <a:endParaRPr b="1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tivitati de marke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mov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v lo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ort in com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aliza de pi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nda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stionare post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udii de pi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litici de servire exempla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suri cu personal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rmarirea comportarii personalulu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stionare clien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itorizarea vanzarilor pe fiecare angaj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2C7B2-1891-45E3-8C90-2209CAF1B89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0EF475-15B6-4D5C-8873-ABD81E4BCF3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aliza pe prod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rmarirea vanzarilor pe produs si sez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rmarirea evolutiei indicatorilor economic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namica salaria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itiile de credit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namica tehnolog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ivelul de promovare a categoriei de prod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FFB3B-ADBC-4B62-991F-D16E5D9E7D86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FB4BBB-8A17-4D30-B19A-FAB0E704578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talii pentru vanzari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947880" y="1790640"/>
          <a:ext cx="3055680" cy="18036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47880" y="1790640"/>
                    <a:ext cx="3055680" cy="180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" name=""/>
          <p:cNvGraphicFramePr/>
          <p:nvPr/>
        </p:nvGraphicFramePr>
        <p:xfrm>
          <a:off x="5167440" y="1600200"/>
          <a:ext cx="2998800" cy="21859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167440" y="1600200"/>
                    <a:ext cx="2998800" cy="218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" name=""/>
          <p:cNvGraphicFramePr/>
          <p:nvPr/>
        </p:nvGraphicFramePr>
        <p:xfrm>
          <a:off x="1027080" y="3938760"/>
          <a:ext cx="2898720" cy="218736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27080" y="3938760"/>
                    <a:ext cx="2898720" cy="218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7" name=""/>
          <p:cNvGraphicFramePr/>
          <p:nvPr/>
        </p:nvGraphicFramePr>
        <p:xfrm>
          <a:off x="5218200" y="3938760"/>
          <a:ext cx="2898720" cy="2187360"/>
        </p:xfrm>
        <a:graphic>
          <a:graphicData uri="http://schemas.openxmlformats.org/presentationml/2006/ole">
            <p:oleObj progId="Excel.Sheet.12" r:id="rId8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5218200" y="3938760"/>
                    <a:ext cx="2898720" cy="218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9" name=""/>
          <p:cNvGraphicFramePr/>
          <p:nvPr/>
        </p:nvGraphicFramePr>
        <p:xfrm>
          <a:off x="228600" y="7086600"/>
          <a:ext cx="3552840" cy="2647800"/>
        </p:xfrm>
        <a:graphic>
          <a:graphicData uri="http://schemas.openxmlformats.org/presentationml/2006/ole">
            <p:oleObj progId="Excel.Sheet.12" r:id="rId10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28600" y="7086600"/>
                    <a:ext cx="3552840" cy="264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1" name=""/>
          <p:cNvGraphicFramePr/>
          <p:nvPr/>
        </p:nvGraphicFramePr>
        <p:xfrm>
          <a:off x="4876920" y="7162920"/>
          <a:ext cx="3571920" cy="2647800"/>
        </p:xfrm>
        <a:graphic>
          <a:graphicData uri="http://schemas.openxmlformats.org/presentationml/2006/ole">
            <p:oleObj progId="Excel.Sheet.12" r:id="rId12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4876920" y="7162920"/>
                    <a:ext cx="3571920" cy="264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>
            <a:hlinkClick r:id="rId14" action="ppaction://hlinksldjump"/>
          </p:cNvPr>
          <p:cNvSpPr/>
          <p:nvPr/>
        </p:nvSpPr>
        <p:spPr>
          <a:xfrm>
            <a:off x="228600" y="5486400"/>
            <a:ext cx="762120" cy="457200"/>
          </a:xfrm>
          <a:custGeom>
            <a:avLst/>
            <a:gdLst>
              <a:gd name="textAreaLeft" fmla="*/ 29520 w 762120"/>
              <a:gd name="textAreaRight" fmla="*/ 732600 w 7621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5994" h="21600">
                <a:moveTo>
                  <a:pt x="0" y="0"/>
                </a:moveTo>
                <a:lnTo>
                  <a:pt x="35994" y="0"/>
                </a:lnTo>
                <a:lnTo>
                  <a:pt x="35994" y="21600"/>
                </a:lnTo>
                <a:lnTo>
                  <a:pt x="0" y="21600"/>
                </a:lnTo>
                <a:close/>
              </a:path>
              <a:path fill="lightenLess" w="35994" h="21600">
                <a:moveTo>
                  <a:pt x="0" y="0"/>
                </a:moveTo>
                <a:lnTo>
                  <a:pt x="35994" y="0"/>
                </a:lnTo>
                <a:lnTo>
                  <a:pt x="34594" y="1400"/>
                </a:lnTo>
                <a:lnTo>
                  <a:pt x="1400" y="1400"/>
                </a:lnTo>
                <a:close/>
              </a:path>
              <a:path fill="darken" w="35994" h="21600">
                <a:moveTo>
                  <a:pt x="35994" y="0"/>
                </a:moveTo>
                <a:lnTo>
                  <a:pt x="35994" y="21600"/>
                </a:lnTo>
                <a:lnTo>
                  <a:pt x="34594" y="20200"/>
                </a:lnTo>
                <a:lnTo>
                  <a:pt x="34594" y="1400"/>
                </a:lnTo>
                <a:close/>
              </a:path>
              <a:path fill="darkenLess" w="35994" h="21600">
                <a:moveTo>
                  <a:pt x="35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4" y="20200"/>
                </a:lnTo>
                <a:close/>
              </a:path>
              <a:path fill="lighten" w="35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94" h="21600">
                <a:moveTo>
                  <a:pt x="10991" y="10800"/>
                </a:moveTo>
                <a:lnTo>
                  <a:pt x="25004" y="3794"/>
                </a:lnTo>
                <a:lnTo>
                  <a:pt x="2500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0D765-0A4C-4F5F-A834-C21C95B7CC9B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642503-7613-4952-8D22-1C2CF4152506}" type="datetime1">
              <a:rPr lang="en-US"/>
              <a:t>07/31/26</a:t>
            </a:fld>
          </a:p>
        </p:txBody>
      </p:sp>
    </p:spTree>
  </p:cSld>
  <p:transition>
    <p:cover dir="u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2239 -0.16621 0.04496 -0.33241 0.04496 -0.42315 C 0.04496 -0.51389 0.0052 -0.50602 0 -0.54491 C -0.00521 -0.5838 0.01302 -0.63797 0.01371 -0.65648 E">
                                      <p:cBhvr>
                                        <p:cTn id="33" dur="1000" fill="hold"/>
                                        <p:tgtEl>
                                          <p:spTgt spid="1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" nodeType="with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 0 C 0.02239 -0.16621 0.04496 -0.33241 0.04496 -0.42315 C 0.04496 -0.51389 0.0052 -0.50602 0 -0.54491 C -0.00521 -0.5838 0.01302 -0.63797 0.01371 -0.65648 E">
                                      <p:cBhvr>
                                        <p:cTn id="35" dur="2000" fill="hold"/>
                                        <p:tgtEl>
                                          <p:spTgt spid="1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21T15:30:58Z</dcterms:created>
  <dc:creator>Vasile Vasilache</dc:creator>
  <dc:description/>
  <dc:language>en-US</dc:language>
  <cp:lastModifiedBy>Ionut</cp:lastModifiedBy>
  <dcterms:modified xsi:type="dcterms:W3CDTF">2006-01-26T19:31:26Z</dcterms:modified>
  <cp:revision>11</cp:revision>
  <dc:subject/>
  <dc:title>Raport de activitate Trimestrul IV 2005</dc:title>
</cp:coreProperties>
</file>